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4F30-BFA4-4D50-8AF7-76F012AC7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38C0-0343-4C4D-B907-7AF3D983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237B-65CD-4C02-9926-6A035650B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D361-725E-4248-9E5D-5A71D4505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0C78-8EEC-4F9C-84C8-E784CB485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4352-9D89-4AEF-90D4-4206D52E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1D05-659F-4E0B-9042-E4757BDE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1AB1-5A62-4C0F-893A-5C55CC0C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BD28-97B0-44B1-B3BA-66D123C1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385A-C490-44F2-9BBD-F7029914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B761-0D8B-4DE5-851C-C9660181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3645-9C0C-496A-AA62-4C994747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5043-59FB-4B08-A633-F585C744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BC69-A3A0-46F7-8AFE-04BBCA04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AAE7-914C-49C9-B606-B5185635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4A6F-3F7C-425E-8990-7329011F2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9486-355B-4256-93BF-B013A6F7D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DE50-D0BE-48A2-98F7-BED4E217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2208-3FEF-4115-9684-525D7118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8D3F-6921-4FD5-A7BC-2748B4A5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6243-A4E6-4CC1-A26E-57191CA0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938B-C9B6-479A-BAD0-3642926B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6F6E-87F4-4F9D-BD9D-C2C3FDBA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5913-57F8-44C3-9E7E-5AA4F4AC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427A-F217-4E96-B318-71B10F96EB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FD0C-9E5D-479B-8C2A-F914DB6D26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Sir, We Would See Jesus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(Life of Christ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arter 10, Lesson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s 93-9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hn 8:21 – 10:2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ose of Jesus Ministr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rsations Jesus had with the Jews at the Feast of Tabernac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vision He Encounters at Jerusalem – John 7:11-5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common people were very favorable toward Hi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harisees hated Hi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Jesus Claim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The Light of the World – John 8:12-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now that the Pharisees will be unable to go where He was going (to heaven) -8:2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y were so hardened in sin that they would do nothing but die in that cond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Jesus and the Pharisees come from very different places – 8:23-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the Messiah sent from God – 8:25-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now He will be crucified – 8:28-2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The Issue of Freedom and Father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 enslaves and blinds, preventing people from going to heaven with Jes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ing in Jesus’ words could free people from sin and blindness – 8:31-32,34-3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ing the truth could free peo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tan was their father, passing on his lies to th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willingly swallowed the lies, thus showing who they were most kin to – 8:37-4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e Conflic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wish leaders accuse Jesus of being demon-possessed – John 8:48,5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sus claimed to honor His Father – 49-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sus claimed that his teaching will give eternal life – 5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sus claimed to be before Abraham was -  53-5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Jews take up stones to stone Jesus - 5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Jesus Heals a Man Born Blind – 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John 9:1-41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question of the reason for the man’s blindness – 1-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because of s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how the power of God in Jes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iracle – 6-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arvel and speculation of others – 8-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rogation of the Pharisees – 13-2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llustration of who was really blind – 24-4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Jesus Is the Good Shepherd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John 10:1-21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rue and False Ways of Entering the Sheepfold – 1-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racteristics of a Good Shepherd -7-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ice especially the sacrificial love of a good shepherd -11,15,17-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racteristics of Thieves and Robbers – 8,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racteristics of a Hired Hand – 12-1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xed views and conclusions – 19-2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7T19:48:12Z</dcterms:created>
  <dc:creator>Terry W. Benton</dc:creator>
  <dc:description/>
  <dc:language>en-US</dc:language>
  <cp:lastModifiedBy>Frank D Vines</cp:lastModifiedBy>
  <dcterms:modified xsi:type="dcterms:W3CDTF">2006-07-05T21:42:26Z</dcterms:modified>
  <cp:revision>4</cp:revision>
  <dc:subject/>
  <dc:title>Sir, We Would See Jesus (Life of Christ)</dc:title>
</cp:coreProperties>
</file>